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7DB-8C9A-4CBD-A9B2-365C98C5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7AD-C1EB-46AA-8AB8-865B8493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ED4-4E3D-491D-B08E-C1E8F265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279-EB16-410A-BC08-92AA0758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02FF-B8DC-4105-8845-AC6C7685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1D3-5822-4173-90EA-8A6862B6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0121-A1FF-42CD-BD51-C988B80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1A13-3BA5-47EC-BB66-92C0D65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24A3-6418-4B2F-B62C-1E97916C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EDCB-745C-48B9-9D17-5DD8B85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FE6D-35FF-409A-B6A1-074FCBB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D97-5A73-48E8-B136-A0168F1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15CA-53B5-45B2-BA9C-73386106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EED2-4299-48FF-97C9-698A608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CB52-46D7-45B3-B7BD-9FAAFCD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3A9-E344-4788-B942-E36CC95A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5DDF-429C-4092-B15C-8E497451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2CC-F81E-400A-93A1-D8EA4B00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91A-FC98-4A28-9CD4-861EA63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928-B8BC-414E-B460-8CFE776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750-14E3-4A6B-B777-B52A5D55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8C5-66C0-48B5-8CC8-7BBA4A5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2C5-A3BE-467C-A9A9-37ABE25A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260-0F86-4003-8268-A821575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EE86-64B2-491F-B6EA-97AFFF7D3B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C85-8D08-4208-86BC-055AB3D980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solidFill>
            <a:srgbClr val="eaeaea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20574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51460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at Sum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 20 - (15 + 7.2) = 2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solidFill>
            <a:srgbClr val="eaeaea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0574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51460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at Sum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 20 - (15 + 7.2) = 2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4052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.8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373040"/>
            <a:ext cx="853452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4500" spc="-1" strike="noStrike">
                <a:solidFill>
                  <a:srgbClr val="ffffcc"/>
                </a:solidFill>
                <a:latin typeface="Palatino Linotype"/>
              </a:rPr>
              <a:t>Calculating Temperature Change in a Rising Air Mas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3659040"/>
            <a:ext cx="342900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4836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solidFill>
            <a:srgbClr val="eaeaea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51460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at Sum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 20 - (15 + 7.2) = 2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OCDSB User</cp:lastModifiedBy>
  <dcterms:modified xsi:type="dcterms:W3CDTF">2012-04-17T17:42:28Z</dcterms:modified>
  <cp:revision>22</cp:revision>
  <dc:subject/>
  <dc:title>Slide 1</dc:title>
</cp:coreProperties>
</file>